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A74-BA15-4EDA-99E6-948ABA32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DBC-842D-476B-A668-4E7E5CD6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335-D6DB-4273-AC28-93B84DA9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7EF-A5CF-47B0-A983-0706BA57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0EC-9EBC-49C5-8E92-573D34C6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491-7D09-484E-9CC0-9A83E43D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4B8-7397-4D03-85F3-F59AB70C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ED6-8A3D-424A-86D7-2A8153B0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D8D-093F-47B6-BF8C-C6D7C05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A1E9-5C2B-4179-A58E-C2C70D5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E4A-E956-43C9-8CF1-31364B7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A33-2137-4442-88FB-824628C2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DCAD4-2321-41B6-9AA3-2C4AD9008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hat are the effects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global warming on water manag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419640"/>
            <a:ext cx="5400720" cy="414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0360" y="0"/>
            <a:ext cx="3240360" cy="4859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64800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440000"/>
            <a:ext cx="719928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 only solution if we don't stop the global warming is to save drinking water and use rain and desalted water to irrigate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4859280"/>
            <a:ext cx="2880000" cy="1800360"/>
          </a:xfrm>
          <a:prstGeom prst="wedgeEllipseCallout">
            <a:avLst>
              <a:gd name="adj1" fmla="val -84606"/>
              <a:gd name="adj2" fmla="val -3304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Save me, stop the global warmin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ro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anon PU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exis VIG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Quentin LE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exandre GATT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arc-Antoine SAINT-P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Made by :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2160720"/>
            <a:ext cx="4500720" cy="467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roduction: 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wadays the world is warming, especially due to the huma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re are lots of consequ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We will explain to you one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Consequences of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elting of icebe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The consequences are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Less drinking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Increase in the salt water su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Less icebe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720" y="0"/>
            <a:ext cx="590076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here is a 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of solutions 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0000" y="582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00" y="468000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920000" y="234000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920000" y="114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920000" y="348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920000" y="636588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0" y="186696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0" y="72072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0" y="636588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0" y="306072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0" y="414036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0" y="52196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2160720" cy="11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9360" y="3044880"/>
            <a:ext cx="97106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e will base oursel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ore particularly on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nsformation of sal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ater into drinkable wa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and in the collection of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4930920" cy="4859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For the tranformation in drinking water we found a solution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ories of desalinazation plans 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se factories use two method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 vacuum distillation, we heat the water until it boils and  evaporates, which leaves the salts and minerals at the bot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 second method is  the filtering of water with  very  thin membranes where only water can pas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99280" y="-3780000"/>
            <a:ext cx="9576000" cy="684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0000" y="0"/>
            <a:ext cx="5400720" cy="395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4680000" cy="39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959280"/>
            <a:ext cx="6240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ut the drinking water from these factories are often use to irrigat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nd the desalinazation is very expensive because it needs a lot of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ut the salt can be s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00720" y="3960720"/>
            <a:ext cx="378000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60000" y="-360"/>
            <a:ext cx="9720360" cy="66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026000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fr-FR" sz="3600" spc="-1" strike="noStrike" u="sng">
                <a:solidFill>
                  <a:srgbClr val="ff0000"/>
                </a:solidFill>
                <a:uFillTx/>
                <a:latin typeface="Comic Sans MS"/>
              </a:rPr>
              <a:t>Second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 also collect the rain in tanks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 use to irrigate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Fields use represents 70% of water consumption)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't drink it because there aren't minerals</a:t>
            </a:r>
            <a:r>
              <a:rPr b="0" lang="fr-FR" sz="2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